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52280" y="39600"/>
            <a:ext cx="51818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 Monarchs of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5" action="ppaction://hlinksldjump"/>
          </p:cNvPr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The Tudors and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The Stuarts and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The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The Monarchy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onarchy in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14300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flict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lict continued between king who believed in absolute monarchy, Parliament that saw itself independ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lict led to war, king’s d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58128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mited King’s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ving been ignored 11 years, Parliament took opportunity to further limit king’s pow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manded Parliament be called at least every three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143000"/>
            <a:ext cx="4038480" cy="2286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liament Reconv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640, Charles I finally reconvened Parliament to ask for more mone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ng Parliament” did not disband for several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3581280"/>
            <a:ext cx="403848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udging 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liament also ruled king could no longer dismiss Parlia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9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les accepted new rules; but awaited right time to overtur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glish Civil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’ moment came when radical Puritan group in Parliament moved to abolish appointment of bishops in Anglican Ch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, whose power connected to power of church, was outra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vil War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embers of Parliament decided to rise up against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 I called for support of English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42, English Civil War be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rles Tries Power Gr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 decided to arrest Puritan leaders for trea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troops into House of Commons, but men had already esca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es had tipped hand on intentions to take back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with Parlia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143000"/>
            <a:ext cx="8229600" cy="19234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Parliament’s funding, king relied on contributions to pay ar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lthy nobl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yali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llegiance to Char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could back its army by voting for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rs of Parlia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all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heads for short, bowl-shaped hairc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heads included Puritans, merchants, some from upper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7200" y="3124080"/>
            <a:ext cx="4038120" cy="2819160"/>
            <a:chOff x="457200" y="3124080"/>
            <a:chExt cx="4038120" cy="2819160"/>
          </a:xfrm>
        </p:grpSpPr>
        <p:sp>
          <p:nvSpPr>
            <p:cNvPr id="103" name=""/>
            <p:cNvSpPr/>
            <p:nvPr/>
          </p:nvSpPr>
          <p:spPr>
            <a:xfrm>
              <a:off x="457200" y="3616920"/>
              <a:ext cx="4038120" cy="23263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liament membe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iver Cromwel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led Roundhead fo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se to leadership as army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44, led victory in which 4,000 of king’s soldiers di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omwell soon became commander of Parliament’s ar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3124080"/>
              <a:ext cx="4038120" cy="4928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oundhead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48320" y="3124080"/>
            <a:ext cx="4038120" cy="2819160"/>
            <a:chOff x="4648320" y="3124080"/>
            <a:chExt cx="4038120" cy="2819160"/>
          </a:xfrm>
        </p:grpSpPr>
        <p:sp>
          <p:nvSpPr>
            <p:cNvPr id="106" name=""/>
            <p:cNvSpPr/>
            <p:nvPr/>
          </p:nvSpPr>
          <p:spPr>
            <a:xfrm>
              <a:off x="4648320" y="3616920"/>
              <a:ext cx="4038120" cy="2326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yalist army outmatched by Cromwell’s tro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46, king surrende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omwell dismissed members of Parliament who disagreed with h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ose left made up what was called the Rump Parlia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3124080"/>
              <a:ext cx="4038120" cy="4928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King Surrend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yalists and Roundh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l and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ually Rump Parliament charged king with treason, put him on 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rial, Charles defended self with great eloquence, refused to even recognize Parliament’s authority to try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nd, Charles sentenced to death for t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30, 1649, publicly beheaded in front of own pa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ome he was martyr; to others tyrant who got what he deser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and’s government changed completely for the next 11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 of Commons abolished House of Lords, outlawed mon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weal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overnment based on common good of all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eig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mwell also had to deal with foreign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d military expeditions to Scotland, 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policies led to war with Dutch over trade; also warred on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rd Pro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3, Cromwell given title Lord Protector of England, Scotland, Ire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ed leader, but demanded complete obe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ped down on social life, closed theaters, limited other enter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and under Crom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660920" y="1371600"/>
            <a:ext cx="4025520" cy="4495320"/>
            <a:chOff x="4660920" y="1371600"/>
            <a:chExt cx="4025520" cy="4495320"/>
          </a:xfrm>
        </p:grpSpPr>
        <p:sp>
          <p:nvSpPr>
            <p:cNvPr id="117" name=""/>
            <p:cNvSpPr/>
            <p:nvPr/>
          </p:nvSpPr>
          <p:spPr>
            <a:xfrm>
              <a:off x="4660920" y="1855440"/>
              <a:ext cx="4025520" cy="401148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eviatha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Hobbes described humans as being naturally selfish, fearf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bbes argued that people needed all-powerful monarch to tell them how to l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ews sparked controversy when England trying to find balance in govern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0920" y="1371600"/>
              <a:ext cx="4025520" cy="483840"/>
            </a:xfrm>
            <a:prstGeom prst="rect">
              <a:avLst/>
            </a:prstGeom>
            <a:solidFill>
              <a:srgbClr val="e2f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viath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7200" y="1371600"/>
            <a:ext cx="4025520" cy="4495320"/>
            <a:chOff x="457200" y="1371600"/>
            <a:chExt cx="4025520" cy="4495320"/>
          </a:xfrm>
        </p:grpSpPr>
        <p:sp>
          <p:nvSpPr>
            <p:cNvPr id="120" name=""/>
            <p:cNvSpPr/>
            <p:nvPr/>
          </p:nvSpPr>
          <p:spPr>
            <a:xfrm>
              <a:off x="457200" y="1855440"/>
              <a:ext cx="4025520" cy="40114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mwell, the king’s death, war troubled many English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e was Thomas Hobbes, Royalist who fled to France during Cromwell’s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bbes wrote classic work of political science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Leviath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" y="1371600"/>
              <a:ext cx="4025520" cy="48384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Questions of R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fender of Absolu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914400"/>
            <a:ext cx="822960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Cause and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some effects of the English Civil W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mporarily ended monarchy and House of Lords, restricted English social life in certain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5181480"/>
            <a:ext cx="8229600" cy="5871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pys: “Great joy all yesterday at London, and at night more bonfires that ever, and ringing of bells…every body seems to be very joyfull in the business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066680"/>
            <a:ext cx="8229600" cy="131364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bbes’s ideas reflected the fact that many people were unhappy under Cromwell, especially when he dismissed Parliament to rule alone—like a king. Attitudes were changing so much that a return to monarchy became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2438280"/>
            <a:ext cx="4038120" cy="2666880"/>
            <a:chOff x="457200" y="2438280"/>
            <a:chExt cx="4038120" cy="2666880"/>
          </a:xfrm>
        </p:grpSpPr>
        <p:sp>
          <p:nvSpPr>
            <p:cNvPr id="130" name=""/>
            <p:cNvSpPr/>
            <p:nvPr/>
          </p:nvSpPr>
          <p:spPr>
            <a:xfrm>
              <a:off x="457200" y="2904480"/>
              <a:ext cx="4038120" cy="22006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58, Cromwell died; son took place; Richard Cromwell lacked father’s leadership abil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s government collap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ually Parliament reconvened, voted to bring back monarchy—event known a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t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2438280"/>
              <a:ext cx="4038120" cy="466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he Rest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narchy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48320" y="2438280"/>
            <a:ext cx="4038120" cy="2666880"/>
            <a:chOff x="4648320" y="2438280"/>
            <a:chExt cx="4038120" cy="2666880"/>
          </a:xfrm>
        </p:grpSpPr>
        <p:sp>
          <p:nvSpPr>
            <p:cNvPr id="134" name=""/>
            <p:cNvSpPr/>
            <p:nvPr/>
          </p:nvSpPr>
          <p:spPr>
            <a:xfrm>
              <a:off x="4648320" y="2904480"/>
              <a:ext cx="4038120" cy="22006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ring 1660, Parliament invited son of Charles I to be new 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liament laid out certain conditions which Charles accep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s crowned a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rles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ople shouted their good wis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48320" y="2438280"/>
              <a:ext cx="4038120" cy="46620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he New 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229600" cy="255564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 and Neg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reopened theaters, flowering of English drama resul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eas Corpus Act passed, guaranteeing someone accused of a crime had right to appear in court to determine if should be held, rel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65, bubonic plague returned; following year Great Fire of Lo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fire, Charles supported public construction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914400"/>
            <a:ext cx="8229600" cy="21873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ign of Charle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had to address many issues—conflict with Dutch continued; religious tensions remained; role of Parliament still being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supported religious toleration for Catholics, but Parliament insisted on laws to strengthen the Church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ation years, mixture of positive, negativ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in Charles’s reign the question of who would succeed him remained. His brother James was next in line, but he was a Cathol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1905120"/>
            <a:ext cx="3885840" cy="4038120"/>
            <a:chOff x="533520" y="1905120"/>
            <a:chExt cx="3885840" cy="4038120"/>
          </a:xfrm>
        </p:grpSpPr>
        <p:sp>
          <p:nvSpPr>
            <p:cNvPr id="141" name=""/>
            <p:cNvSpPr/>
            <p:nvPr/>
          </p:nvSpPr>
          <p:spPr>
            <a:xfrm>
              <a:off x="533520" y="2339640"/>
              <a:ext cx="3885840" cy="3603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mes married to Catholic princess, whose Catholic son would outrank James’s Protestant daughters from first marri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85, Charles died, James crowned 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y wondered if another destructive war would fol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mes not popular; believed in right to rule as absolute mon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012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glish did not tolerate that beli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520" y="1905120"/>
              <a:ext cx="3885840" cy="4345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Pop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724280" y="1905120"/>
            <a:ext cx="3885840" cy="4038120"/>
            <a:chOff x="4724280" y="1905120"/>
            <a:chExt cx="3885840" cy="4038120"/>
          </a:xfrm>
        </p:grpSpPr>
        <p:sp>
          <p:nvSpPr>
            <p:cNvPr id="144" name=""/>
            <p:cNvSpPr/>
            <p:nvPr/>
          </p:nvSpPr>
          <p:spPr>
            <a:xfrm>
              <a:off x="4724280" y="2339640"/>
              <a:ext cx="3885840" cy="36036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88, group of nobles invited James’s daughter Mary, husband William to become king, qu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lliam and Ma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oth Protestants, lived in Netherla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mes fled to F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liament gave throne to William III, Mary II as joint rulers; transfer became known a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rious Rev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24280" y="1905120"/>
              <a:ext cx="3885840" cy="4345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Glorious Rev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m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Tudors work with Parliam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led the first two Stuart kings to clash with Parliam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ere the causes and results of the English Civil W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happened when monarchy returned to Englan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ontrast to the absolute monarchies of Spain and France, the English monarchy was limited by Parliament; following a civil war, Parliament became even more powerfu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archy in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660920" y="1143000"/>
            <a:ext cx="4025520" cy="4800240"/>
            <a:chOff x="4660920" y="1143000"/>
            <a:chExt cx="4025520" cy="4800240"/>
          </a:xfrm>
        </p:grpSpPr>
        <p:sp>
          <p:nvSpPr>
            <p:cNvPr id="148" name=""/>
            <p:cNvSpPr/>
            <p:nvPr/>
          </p:nvSpPr>
          <p:spPr>
            <a:xfrm>
              <a:off x="4660920" y="1659600"/>
              <a:ext cx="4025520" cy="428364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ill of Rights central to England’s growth a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stitutional Monarch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term for monarchy limited by la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cument’s approval came after decades of dramatic changes in English gover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gland had rejected concept of absolute monarch who ruled by divine right, for monarchy ruled by la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0920" y="1143000"/>
              <a:ext cx="4025520" cy="516600"/>
            </a:xfrm>
            <a:prstGeom prst="rect">
              <a:avLst/>
            </a:prstGeom>
            <a:solidFill>
              <a:srgbClr val="f8c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nstitutional Mon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1143000"/>
            <a:ext cx="4025520" cy="4800240"/>
            <a:chOff x="457200" y="1143000"/>
            <a:chExt cx="4025520" cy="4800240"/>
          </a:xfrm>
        </p:grpSpPr>
        <p:sp>
          <p:nvSpPr>
            <p:cNvPr id="151" name=""/>
            <p:cNvSpPr/>
            <p:nvPr/>
          </p:nvSpPr>
          <p:spPr>
            <a:xfrm>
              <a:off x="457200" y="1659600"/>
              <a:ext cx="4025520" cy="42836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th Glorious Revolution, Parliament had essentially crowned new king, que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re important, a document William and Mary had to sign before taking throne—the English Bill of R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cument prevented monarch from levying taxes without consent of Parliament, among other provi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.S. Bill of Rights based on this docu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1143000"/>
              <a:ext cx="4025520" cy="516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ill of R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in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 during the Glorious Rev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505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iam and Mary were given the English throne by Parlia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660920" y="1371600"/>
            <a:ext cx="4025520" cy="4495320"/>
            <a:chOff x="4660920" y="1371600"/>
            <a:chExt cx="4025520" cy="4495320"/>
          </a:xfrm>
        </p:grpSpPr>
        <p:sp>
          <p:nvSpPr>
            <p:cNvPr id="53" name=""/>
            <p:cNvSpPr/>
            <p:nvPr/>
          </p:nvSpPr>
          <p:spPr>
            <a:xfrm>
              <a:off x="4660920" y="1855440"/>
              <a:ext cx="4025520" cy="401148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enry VIII created Protestant Church in England to divorce first w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ad Parliament pass laws ending power of pope in Eng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1534 Act of Supremacy named king as head of Church of Eng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60920" y="1371600"/>
              <a:ext cx="4025520" cy="4838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enry and Parlia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57200" y="1371600"/>
            <a:ext cx="4025520" cy="4495320"/>
            <a:chOff x="457200" y="1371600"/>
            <a:chExt cx="4025520" cy="4495320"/>
          </a:xfrm>
        </p:grpSpPr>
        <p:sp>
          <p:nvSpPr>
            <p:cNvPr id="56" name=""/>
            <p:cNvSpPr/>
            <p:nvPr/>
          </p:nvSpPr>
          <p:spPr>
            <a:xfrm>
              <a:off x="457200" y="1855440"/>
              <a:ext cx="4025520" cy="40114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o prominent members of Tudor dynasty, Henry VIII and daughter Elizabeth I, ruled when absolutism common on European conti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England, Parliament placed curbs on absolute mon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oth father, daughter had to learn to work with Parliament to fulfill go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" y="1371600"/>
              <a:ext cx="4025520" cy="4838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enry and Elizabe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udors and Parlia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352680"/>
            <a:ext cx="8229600" cy="201240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 developed between Parliament, qu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liament pressured her to marry so she would have heir to th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refused, knowing marriage would limit her free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managed to talk Parliament into approving funds she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8229600" cy="23173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ward, Mary, Elizab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Henry’s death and short reign of son Edward, Mary I became qu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called Bloody Mary, briefly made England Catholic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58, Mary died; Elizabeth crowned qu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England to Anglican Church with Parliament’s 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zabeth in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reason for Elizabeth’s good relationship with Parliament, her willingness to let members speak minds without fear of 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ies shown in fact that she called Parliament into session 10 times in 45-year re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 clearly in charge, but had difficulty keeping subjects from questioning he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 of Essex rebelled against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ed publicly, “Cannot princes err? Cannot subjects receive wrong? Is an earthly power or authority infinit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x tried, executed as a tra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he last to question Elizabeth’s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Henry VIII and Elizabeth I work with Parliament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505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ass laws to help the monarch achieve desir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1143000"/>
            <a:ext cx="8076960" cy="79920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udors’ success with Parliament not repe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of the Scotland Tudors succeeded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2057400"/>
            <a:ext cx="2590560" cy="3886200"/>
            <a:chOff x="533520" y="2057400"/>
            <a:chExt cx="2590560" cy="3886200"/>
          </a:xfrm>
        </p:grpSpPr>
        <p:sp>
          <p:nvSpPr>
            <p:cNvPr id="70" name=""/>
            <p:cNvSpPr/>
            <p:nvPr/>
          </p:nvSpPr>
          <p:spPr>
            <a:xfrm>
              <a:off x="533520" y="2475720"/>
              <a:ext cx="2590560" cy="34678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mes I, first of Stuart dynasty to rule in Engl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 of absolute monarchy caused conflict with Parlia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vious wars, own spending left him low on fu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2057400"/>
              <a:ext cx="2590560" cy="41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James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76720" y="2057400"/>
            <a:ext cx="2590560" cy="3886200"/>
            <a:chOff x="3276720" y="2057400"/>
            <a:chExt cx="2590560" cy="3886200"/>
          </a:xfrm>
        </p:grpSpPr>
        <p:sp>
          <p:nvSpPr>
            <p:cNvPr id="73" name=""/>
            <p:cNvSpPr/>
            <p:nvPr/>
          </p:nvSpPr>
          <p:spPr>
            <a:xfrm>
              <a:off x="3276720" y="2475720"/>
              <a:ext cx="2590560" cy="34678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Scotland, considered outsi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mes rarely got all money he wanted from Parlia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ritan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anted reform of Church of Engl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720" y="2057400"/>
              <a:ext cx="2590560" cy="4183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lashes with Parlia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19920" y="2057400"/>
            <a:ext cx="2590560" cy="3886200"/>
            <a:chOff x="6019920" y="2057400"/>
            <a:chExt cx="2590560" cy="3886200"/>
          </a:xfrm>
        </p:grpSpPr>
        <p:sp>
          <p:nvSpPr>
            <p:cNvPr id="76" name=""/>
            <p:cNvSpPr/>
            <p:nvPr/>
          </p:nvSpPr>
          <p:spPr>
            <a:xfrm>
              <a:off x="6019920" y="2475720"/>
              <a:ext cx="2590560" cy="34678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en as threat to James’s power; church leadership supported h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used to pass Puritans’ requests for re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d agree to publication of King James Bi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19920" y="2057400"/>
              <a:ext cx="2590560" cy="4183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uritan Refo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arts and Parlia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James I died in 1625, his younger son was crowned king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les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3520" y="1905120"/>
            <a:ext cx="3885840" cy="4038120"/>
            <a:chOff x="533520" y="1905120"/>
            <a:chExt cx="3885840" cy="4038120"/>
          </a:xfrm>
        </p:grpSpPr>
        <p:sp>
          <p:nvSpPr>
            <p:cNvPr id="81" name=""/>
            <p:cNvSpPr/>
            <p:nvPr/>
          </p:nvSpPr>
          <p:spPr>
            <a:xfrm>
              <a:off x="533520" y="2339640"/>
              <a:ext cx="3885840" cy="3603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ular at first, but married Catholic prin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olved England in military adventures overs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28, summoned Parliament to request mon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liament refused until Charles signed Petition of 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tition of Right a direct challenge to absolute monarc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1905120"/>
              <a:ext cx="3885840" cy="4345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ssues of Mo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724280" y="1905120"/>
            <a:ext cx="3885840" cy="4038120"/>
            <a:chOff x="4724280" y="1905120"/>
            <a:chExt cx="3885840" cy="4038120"/>
          </a:xfrm>
        </p:grpSpPr>
        <p:sp>
          <p:nvSpPr>
            <p:cNvPr id="84" name=""/>
            <p:cNvSpPr/>
            <p:nvPr/>
          </p:nvSpPr>
          <p:spPr>
            <a:xfrm>
              <a:off x="4724280" y="2339640"/>
              <a:ext cx="3885840" cy="360360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ced limits on king’s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uld not levy taxes without Parliamentary appro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liament later refused to give Charles money ag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 taxed English people on own, forced bankers to lend him mon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liament was furi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rles dismissed Parlia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6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29, decided to rule without consulting Parliament ag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24280" y="1905120"/>
              <a:ext cx="3885840" cy="4345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etition of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les I Defies Parlia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914400"/>
            <a:ext cx="822960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e Stuarts have trouble with Parlia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505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wanted to rule as absolute monarc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乩歫椠䱡畳椀㸲㻸ꔿ㌋䬮ꍰ䞮誀圇짗꾬钒붤鏊꣊㥊揤鞁</cp:lastModifiedBy>
  <cp:lastPrinted>2005-02-01T16:21:45Z</cp:lastPrinted>
  <dcterms:modified xsi:type="dcterms:W3CDTF">2007-01-17T11:18:19Z</dcterms:modified>
  <cp:revision>243</cp:revision>
  <dc:subject/>
  <dc:title>PowerPoint Presentation</dc:title>
</cp:coreProperties>
</file>